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FD79-50EA-49CD-891A-D75794A7E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2345-A1CB-4C7D-937A-28FA78064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04A6-BA8A-4496-B73C-4B346F113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A220-7524-48D8-9661-8DFAEB887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6DA9-3B60-477A-88FB-0CF9CDF6F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0259-839F-4BA4-BFF5-BB21CD699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1EE1-9F2D-4447-9718-C28C575D3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F8B8-4433-415C-85BB-5B13555AD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42A7-62AB-4446-8B6A-7EA8ABFBA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4E46-E5F1-4A3A-870A-73318494F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B857-B065-48E1-BC15-1E06D18BF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FD80-5E9C-4594-B4C9-B78C97975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5 Generation  PG65 BA, P. Baer   03-09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BB12D3-CEAB-40FF-A20B-09BF4C089FE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close the GAP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7080" y="1676520"/>
          <a:ext cx="6959520" cy="4297320"/>
        </p:xfrm>
        <a:graphic>
          <a:graphicData uri="http://schemas.openxmlformats.org/drawingml/2006/table">
            <a:tbl>
              <a:tblPr/>
              <a:tblGrid>
                <a:gridCol w="1258920"/>
                <a:gridCol w="938160"/>
                <a:gridCol w="939600"/>
                <a:gridCol w="965520"/>
                <a:gridCol w="965160"/>
                <a:gridCol w="990360"/>
                <a:gridCol w="90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p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y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C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73080" y="1114560"/>
            <a:ext cx="45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 levers per product and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05520" y="614376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high       o mid       -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75760" y="11430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8480" y="117648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9920" y="146376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26440" y="2355840"/>
            <a:ext cx="1717560" cy="307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tual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26440" y="287496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vers to impr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26440" y="361008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rget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65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26440" y="434016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5541840"/>
            <a:ext cx="1103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se 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796000"/>
            <a:ext cx="11034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pendant on sale cj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0880" y="5824440"/>
            <a:ext cx="11034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€ already sa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DD0A-27CC-4B1C-B1E1-E8D36A6FFBDD}" type="slidenum">
              <a:t>1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H Fink</dc:creator>
  <dc:description/>
  <dc:language>en-US</dc:language>
  <cp:lastModifiedBy>Siemens-Mitarbeiter</cp:lastModifiedBy>
  <cp:lastPrinted>2002-03-20T19:03:58Z</cp:lastPrinted>
  <dcterms:modified xsi:type="dcterms:W3CDTF">2003-09-25T15:50:16Z</dcterms:modified>
  <cp:revision>502</cp:revision>
  <dc:subject/>
  <dc:title>L55 Barracuda M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stefanie.kraemer@siemens.com</vt:lpwstr>
  </property>
  <property fmtid="{D5CDD505-2E9C-101B-9397-08002B2CF9AE}" pid="3" name="_AuthorEmailDisplayName">
    <vt:lpwstr>Kraemer Stefanie ICM MP UC CS</vt:lpwstr>
  </property>
  <property fmtid="{D5CDD505-2E9C-101B-9397-08002B2CF9AE}" pid="4" name="_EmailEntryID">
    <vt:lpwstr>000000006BFB1AC7D769D4118E4C00508B656DE207002D8F24094DEFD3118E4800508B656DE20000001DB66F00002C596574BA874846A35C843BA87906D7000000FC8BEC0000</vt:lpwstr>
  </property>
  <property fmtid="{D5CDD505-2E9C-101B-9397-08002B2CF9AE}" pid="5" name="_EmailStoreID">
    <vt:lpwstr>0000000038A1BB1005E5101AA1BB08002B2A56C20000454D534D44422E444C4C00000000000000001B55FA20AA6611CD9BC800AA002FC45A0C0000004D434848394D5041002F6F3D53434E2F6F753D5342534D434848303031452F636E3D526563697069656E74732F636E3D50657465722E4261657200</vt:lpwstr>
  </property>
  <property fmtid="{D5CDD505-2E9C-101B-9397-08002B2CF9AE}" pid="6" name="_EmailSubject">
    <vt:lpwstr>Bitte überarbeiten Sie 'product targets_180903'</vt:lpwstr>
  </property>
  <property fmtid="{D5CDD505-2E9C-101B-9397-08002B2CF9AE}" pid="7" name="_ReviewCycleID">
    <vt:r8>-806922927</vt:r8>
  </property>
  <property fmtid="{D5CDD505-2E9C-101B-9397-08002B2CF9AE}" pid="8" name="_ReviewingToolsShownOnce">
    <vt:lpwstr/>
  </property>
</Properties>
</file>